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1C07-A315-4E2F-8426-F0F467A59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3397-AB4F-4803-A073-E763CF543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2E93-C2A4-449D-809A-C9E741FC7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D967-AC8C-4F5A-AB56-07CF77105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CDC8-C562-401A-969F-8FCECC135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BAB1-0629-47C7-B9A3-F4EC2862E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F80C-83D9-4ADF-94CA-2EB230AA9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A447-A76F-41FF-B2C2-4551DF264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7027-942C-4904-B720-B0AEE9CFC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507E-A6AE-4A20-B246-540A5363E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8057-AFA4-426E-B6DB-4EAF0D94D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6CD4-5E3A-4C25-8DC4-664C66382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8D71-49EA-413E-948A-453850566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EE55-C2B2-4494-80C6-89261D065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6F4E-B6A4-47E9-8265-92CE9641A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B5A-A688-419C-B825-263BBAFF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CB3-A822-4151-94C6-677A8CF9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38C-A837-4680-A16F-85C7DF1D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EDB-CEF6-4889-BF1D-7A32E441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2393-DC13-4ECF-A50C-68675662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519B-5237-41AD-9F75-8CDF820B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2ACC-4DA1-4F7A-8117-01511EB9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6941-5A69-45D8-9DB0-61E77B87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CD2A-A90F-438B-B571-28766F23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8793-BF10-4C39-9AAE-FBCED269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AABF-9927-4A46-84D6-362A6740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3A0-BBA2-4F29-AE31-B46E5122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8B83-04DF-4854-A545-3456EFA0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C3CB-BE43-4C1E-94F6-E35FAA60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B8BA-2C03-4D7B-998C-2E663C76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4033-570F-471F-8D1F-C9E51C51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AAD5-278A-4340-B031-82E911F5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03096-C1D1-4537-90AE-5E5B28D9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E5921-0A97-4A9B-8654-85B154CC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8C17F-E935-4431-9CF4-4CC803C2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3612-44FD-41AD-9E96-0C54FF13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7A903-101B-4AE7-AE3F-0F320F9A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CD1-2589-4C02-A3D7-A62D178E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9989-7B06-40A0-9ACE-082A62FF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6DD8F-4EE9-48D7-83F8-54A72A33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FD3E-335C-453C-A939-F3BC5EBC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56CF6-1609-496E-A229-31D12A0F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9CB3D-262A-4842-880B-2DC4B840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145E6-8715-444D-84CA-3D5E8E61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205E9-79DE-4A44-87D1-E069C73A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F0C78-1B8E-41EC-8460-3737CD83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79389-7610-4DA4-BECA-25173D2E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AE006-0309-4193-B162-AC624D16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054-6497-4BE1-A5BB-330B5D20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A125D-B7DD-4E1F-ABAA-4D9A7C55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0E9E2-D7DC-433A-8490-D5559EDD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F71D-D7A2-410F-8B00-536A1085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FF83E-D29A-4519-A004-F206ED5B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CE1A8-44E1-45A7-BC81-BB157529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85D3C-E782-45CF-BB6D-68D6FE72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9AC43-1C7E-43D5-95BD-BFB40873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DC574-D39E-4E6B-9EC2-4A694BDE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5CC65-F86E-4CF3-AB95-96BB3E72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0BEE6-2DE7-4E1E-96CD-E2D12256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5A1-98D1-419E-887A-8FCCE508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35812-983A-4865-ADF3-2DC483B8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7FB01-DDC3-4373-B72B-A5A80EA3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B6838-CF6A-490D-AC21-04F276F7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4D9E8-E049-4E94-B516-32271D1A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74F03-EA07-4A89-9C54-3A661420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CCA65-FD6B-4622-B670-D42068C3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62E12-8661-4833-9FD5-9F1A598B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67ADA-4AA1-4383-87AE-327A0108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995F0-50AB-46B6-815B-378CD04C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2372F-A723-4481-8A79-D7CF7AC3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AC6-401F-4854-A3AC-92D984B6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497F5-BE9D-4409-8AB0-2D2D9442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2D46E-4BFE-4D17-9FC9-9870E83F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50389-101B-4D97-AC47-1B72622A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16F59-5418-4F4C-BF9B-D251CE12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02591-F3CF-4416-A5EE-CF89E0C7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134C7-8E19-4A96-8C66-EDFE22D0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F25B8-D7ED-4728-9AEF-9845EC0D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42C2E-924C-4FA8-B370-8C30EC83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09A5A-0939-4F41-98DA-5953AED8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3B2C7-A20C-4261-A33A-5FC7288A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D0B-9D0E-45F0-91B5-490A6D92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954F1-E61C-474A-8B38-8FD12145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78C18-916B-440A-AE07-ED2A1153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81AA2-64E4-4240-8384-53EAFFCD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0307D-3ACB-4702-BD3C-72ED5785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56E30-2139-4F8F-A369-E08D40BB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CBAAB-D9DC-4029-806B-1B44BA4C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898AC-037A-4554-AE36-547CDF68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7CD12-BAAF-43F2-96BF-3D9F4483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B7B77-5AA5-4F4A-95F1-00E0F33D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AB333-71D7-4D7F-80ED-FC6B6D82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28F-5554-421B-9086-B5E3B2C7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2E376-E350-4DD5-BDB0-E767D4A0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4C0C5-FDC0-41D3-BDD8-E054BB1F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15300-E77A-42A7-950D-C54065C6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6AD5F-2C09-433B-92D4-45167A43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22745-713A-40E9-B4BA-E20CBA07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788-B6EC-48C7-9D50-CC138B62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1764-8D7A-420D-AD38-B33EE1CAE5A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08B9-0439-43C8-BD66-C787DBB895D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531F-47C3-4BE7-A020-C32457938DA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6AED-8597-43B5-9CF2-4A67F49CB52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3C24-5A56-480B-BCE5-B3C2495867F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7B81-B301-4429-91EB-A7AEE897C46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BA93-3571-4E0A-BF67-AD5966BEF90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Gill Sans MT"/>
              </a:rPr>
              <a:t>Feeding An Infant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Picture 2" descr="C:\Users\Paula\AppData\Local\Microsoft\Windows\Temporary Internet Files\Content.IE5\C07T42H9\MC900024496[1].wmf"/>
          <p:cNvPicPr/>
          <p:nvPr/>
        </p:nvPicPr>
        <p:blipFill>
          <a:blip r:embed="rId1"/>
          <a:stretch/>
        </p:blipFill>
        <p:spPr>
          <a:xfrm>
            <a:off x="5438880" y="1662120"/>
            <a:ext cx="3198600" cy="4510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TED OBJECTIVE(S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TED OBJECTIVE(S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udents find videos on the subject of feeding infants and add to the class Wik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TED OBJECTIVE(S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udents find videos on the subject of feeding infants and add to the class Wik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udents practice by playing a multimedia came on the topic of fee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TED OBJECTIVE(S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udents find videos on the subject of feeding infants and add to the class Wik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udents practice by playing a multimedia came on the topic of fee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the information gained students use a word processing program to write a short essay on their choice of breastfeeding or bottle fee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4865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esson 2 Rubric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143000" y="914400"/>
          <a:ext cx="7772400" cy="5334120"/>
        </p:xfrm>
        <a:graphic>
          <a:graphicData uri="http://schemas.openxmlformats.org/drawingml/2006/table">
            <a:tbl>
              <a:tblPr/>
              <a:tblGrid>
                <a:gridCol w="1504800"/>
                <a:gridCol w="1781280"/>
                <a:gridCol w="1492200"/>
                <a:gridCol w="1428840"/>
                <a:gridCol w="1565280"/>
              </a:tblGrid>
              <a:tr h="66672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them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porting detail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agraph centered around a significant idea or topic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ceptionally clear, focused, engaging with relevant, strong supporting detail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main idea or topic is clear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lear, focused, interesting idea with appropriate detail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idea may be cloudy because supporting detail is too general or even off-topic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Garamond"/>
                          <a:ea typeface="Calibri"/>
                        </a:rPr>
                        <a:t>Lacks central  idea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Garamond"/>
                          <a:ea typeface="Calibri"/>
                        </a:rPr>
                        <a:t>Development is minimal or non-existen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ganizat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uctur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roduct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clus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ffectively organized in logical and creative manner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eative and engaging intro and conclus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ong order and structur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viting intro and satisfying closur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ttempts at organization; may be a “list” of item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ginning and ending not clear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ck of coherence; confusing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 identifiable beginning or ending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oic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sonality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nse of audienc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ressive, engaging, sincer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ong sense of audienc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hows emotion: humor, honesty, suspense or lif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ropriate to audience and purpos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riter behind the words comes through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oice may be inappropriate or non-existent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riting may seen mechanical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riting is lifeles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 hint of the writer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d Choic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cisio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ffectivenes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agery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cise, carefully chose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ong, fresh, vivid image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ve, broad range of word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d choice energizes writing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ds may be correct but mundan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n words chosen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mited range of word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me vocabulary misuse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ntence Fluency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hythm, flow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ety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gh degree of craftsmanship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ffective variation in sentence pattern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sy flow and rhythm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ood variety in length and structur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me awkward construction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n simple pattern use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veral sentences begin the same way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fficult to follow or read alou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jointed, confusing, rambling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vention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ge appropriate for spelling, caps, punctuation, grammar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ceptionally strong control of standard conventions of writing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x conventions attempte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ong control of convention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rrors are few and minor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mited control of conventions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me errors in common patterns or structures do not unduly interfere with understanding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erous errors distract the reader and make the text difficult to read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rrors may be made more than one way for the same pattern or structur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e of Word program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n use and produce a writing using a word processing program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udent knows how to produce an exceptional word document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udent knows how to produce a word document but needs a little work in using some of the feature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udents can produce a word document but needs more work in using some important features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udent needs to work on learning how to use a word processing program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udent can produce a product but needs to use more of the features to create a better product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me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n complete an assignment within a given time frame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tes the assignment before or on due date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tes the assignment one to two  days late and communicates this to the teacher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tes the assignment one to two days late doesn’t communicate this to the teacher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tes the assignment within one week of the due date.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Rectangle 1"/>
          <p:cNvSpPr/>
          <p:nvPr/>
        </p:nvSpPr>
        <p:spPr>
          <a:xfrm>
            <a:off x="4214160" y="-13788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Ma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ACS National Stand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a of Study 15.0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en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ACS National Stand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a of Study 15.0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en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5.1 Analyze roles and responsibilities of paren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ACS National Stand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a of Study 15.0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en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5.1 Analyze roles and responsibilities of paren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5.2 Evaluate parenting practices that maximize human growth and develop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ACS National Standar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ea of Study 15.0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arent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5.1 Analyze roles and responsibilities of parent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5.2 Evaluate parenting practices that maximize human growth and developmen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5.4 Analyze physical &amp; emotional factors related to beginning the parenting process.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isconsin Technology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ndard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isconsin Technology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ndard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.  Media &amp; Technology (A.12.3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isconsin Technology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ndard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.  Media &amp; Technology (A.12.3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.  Information &amp; Inquiry(B.12.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isconsin Technology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ndard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.  Media &amp; Technology (A.12.3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.  Information &amp; Inquiry(B.12.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.  The Learning Community(D.12.1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1:23:49Z</dcterms:created>
  <dc:creator>Paula</dc:creator>
  <dc:description/>
  <dc:language>en-US</dc:language>
  <cp:lastModifiedBy>Paula</cp:lastModifiedBy>
  <dcterms:modified xsi:type="dcterms:W3CDTF">2010-06-17T13:13:33Z</dcterms:modified>
  <cp:revision>3</cp:revision>
  <dc:subject/>
  <dc:title>Feeding An Infant</dc:title>
</cp:coreProperties>
</file>